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chimes.wav" ContentType="audio/x-wav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44E04-BE07-4F35-A058-1AB56C03F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2D8A3-04D8-402B-8BCE-66D813E8C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31BAB-9976-41F0-A562-BB3685D5E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3C383-768C-49D5-8D2E-A8DCAC38F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087F1-3640-4BBF-8F9F-C02E1DA42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05185-84B8-4C96-8965-0FE7BC061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DFE9D-9D2F-4464-B1A6-343E1DBF3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44631-366A-4166-93FA-4B878CC6A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047F3-53CC-476B-9E0F-7398C83E7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3E981-68A2-410A-AB04-75407D437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82E1E-F841-4DC3-941F-38BD52EE8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A12E5-6B20-4754-A982-B19C63FA0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A05F4-68E1-4ADB-97C9-D1D80A055FC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3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单圆角矩形 1"/>
          <p:cNvSpPr/>
          <p:nvPr/>
        </p:nvSpPr>
        <p:spPr>
          <a:xfrm>
            <a:off x="0" y="1828800"/>
            <a:ext cx="2484360" cy="720720"/>
          </a:xfrm>
          <a:custGeom>
            <a:avLst/>
            <a:gdLst/>
            <a:ahLst/>
            <a:rect l="l" t="t" r="r" b="b"/>
            <a:pathLst>
              <a:path w="2484438" h="720725">
                <a:moveTo>
                  <a:pt x="0" y="0"/>
                </a:moveTo>
                <a:lnTo>
                  <a:pt x="2135521" y="0"/>
                </a:lnTo>
                <a:cubicBezTo>
                  <a:pt x="2328223" y="0"/>
                  <a:pt x="2484438" y="156215"/>
                  <a:pt x="2484438" y="348917"/>
                </a:cubicBezTo>
                <a:lnTo>
                  <a:pt x="2484438" y="720725"/>
                </a:lnTo>
                <a:lnTo>
                  <a:pt x="0" y="720725"/>
                </a:lnTo>
                <a:lnTo>
                  <a:pt x="0" y="0"/>
                </a:lnTo>
                <a:close/>
              </a:path>
            </a:pathLst>
          </a:custGeom>
          <a:solidFill>
            <a:srgbClr val="8dd2eb"/>
          </a:solidFill>
          <a:ln w="12600">
            <a:solidFill>
              <a:srgbClr val="8dd2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10"/>
          <p:cNvSpPr/>
          <p:nvPr/>
        </p:nvSpPr>
        <p:spPr>
          <a:xfrm flipV="1">
            <a:off x="2251080" y="2508120"/>
            <a:ext cx="4699080" cy="12960"/>
          </a:xfrm>
          <a:prstGeom prst="line">
            <a:avLst/>
          </a:prstGeom>
          <a:ln w="57240">
            <a:solidFill>
              <a:srgbClr val="8dd2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9"/>
          <p:cNvSpPr/>
          <p:nvPr/>
        </p:nvSpPr>
        <p:spPr>
          <a:xfrm>
            <a:off x="738000" y="1887480"/>
            <a:ext cx="374076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5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sz="35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四单元   </a:t>
            </a:r>
            <a:r>
              <a:rPr b="1" sz="35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比   例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6"/>
          <p:cNvSpPr/>
          <p:nvPr/>
        </p:nvSpPr>
        <p:spPr>
          <a:xfrm>
            <a:off x="127080" y="3343320"/>
            <a:ext cx="875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比例尺应用练习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文本框 390145"/>
          <p:cNvSpPr/>
          <p:nvPr/>
        </p:nvSpPr>
        <p:spPr>
          <a:xfrm>
            <a:off x="755640" y="1812960"/>
            <a:ext cx="4608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文本框 390146"/>
          <p:cNvSpPr/>
          <p:nvPr/>
        </p:nvSpPr>
        <p:spPr>
          <a:xfrm>
            <a:off x="611280" y="1236600"/>
            <a:ext cx="75610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找一幅中国地图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量出上海到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京的距离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并根据地图的比例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计算实际距离大约是多少千米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文本框 390147"/>
          <p:cNvSpPr/>
          <p:nvPr/>
        </p:nvSpPr>
        <p:spPr>
          <a:xfrm>
            <a:off x="1258920" y="4189320"/>
            <a:ext cx="45370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文本框 390148"/>
          <p:cNvSpPr/>
          <p:nvPr/>
        </p:nvSpPr>
        <p:spPr>
          <a:xfrm>
            <a:off x="611280" y="2955960"/>
            <a:ext cx="67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①</a:t>
            </a: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要正确找到表示两个城市位  置的点</a:t>
            </a:r>
            <a:r>
              <a:rPr b="1" lang="en-US" sz="2400" spc="-1" strike="noStrike">
                <a:solidFill>
                  <a:srgbClr val="ff3300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文本框 390149"/>
          <p:cNvSpPr/>
          <p:nvPr/>
        </p:nvSpPr>
        <p:spPr>
          <a:xfrm>
            <a:off x="1187280" y="5989680"/>
            <a:ext cx="5905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390150"/>
          <p:cNvSpPr/>
          <p:nvPr/>
        </p:nvSpPr>
        <p:spPr>
          <a:xfrm>
            <a:off x="692280" y="4189320"/>
            <a:ext cx="72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②</a:t>
            </a: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要测量两个点之间的直线距离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组合 2"/>
          <p:cNvGrpSpPr/>
          <p:nvPr/>
        </p:nvGrpSpPr>
        <p:grpSpPr>
          <a:xfrm>
            <a:off x="82440" y="612720"/>
            <a:ext cx="3245040" cy="525600"/>
            <a:chOff x="82440" y="612720"/>
            <a:chExt cx="3245040" cy="525600"/>
          </a:xfrm>
        </p:grpSpPr>
        <p:grpSp>
          <p:nvGrpSpPr>
            <p:cNvPr id="90" name="圆角矩形 5"/>
            <p:cNvGrpSpPr/>
            <p:nvPr/>
          </p:nvGrpSpPr>
          <p:grpSpPr>
            <a:xfrm>
              <a:off x="227160" y="612720"/>
              <a:ext cx="3100320" cy="525600"/>
              <a:chOff x="227160" y="612720"/>
              <a:chExt cx="3100320" cy="525600"/>
            </a:xfrm>
          </p:grpSpPr>
          <p:pic>
            <p:nvPicPr>
              <p:cNvPr id="91" name="圆角矩形 5" descr=""/>
              <p:cNvPicPr/>
              <p:nvPr/>
            </p:nvPicPr>
            <p:blipFill>
              <a:blip r:embed="rId1"/>
              <a:stretch/>
            </p:blipFill>
            <p:spPr>
              <a:xfrm>
                <a:off x="227160" y="612720"/>
                <a:ext cx="3100320" cy="525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2" name=""/>
              <p:cNvSpPr/>
              <p:nvPr/>
            </p:nvSpPr>
            <p:spPr>
              <a:xfrm>
                <a:off x="271800" y="696960"/>
                <a:ext cx="2950920" cy="28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000" spc="-1" strike="noStrike">
                    <a:solidFill>
                      <a:srgbClr val="ffffff"/>
                    </a:solidFill>
                    <a:latin typeface="Arial"/>
                  </a:rPr>
                  <a:t>练一练</a:t>
                </a:r>
                <a:endParaRPr b="0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" name="组合 4"/>
            <p:cNvGrpSpPr/>
            <p:nvPr/>
          </p:nvGrpSpPr>
          <p:grpSpPr>
            <a:xfrm>
              <a:off x="82440" y="739080"/>
              <a:ext cx="428400" cy="188640"/>
              <a:chOff x="82440" y="739080"/>
              <a:chExt cx="428400" cy="188640"/>
            </a:xfrm>
          </p:grpSpPr>
          <p:sp>
            <p:nvSpPr>
              <p:cNvPr id="94" name="椭圆 11"/>
              <p:cNvSpPr/>
              <p:nvPr/>
            </p:nvSpPr>
            <p:spPr>
              <a:xfrm rot="16200000">
                <a:off x="396360" y="813240"/>
                <a:ext cx="82800" cy="1458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27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5" name="椭圆 13"/>
              <p:cNvGrpSpPr/>
              <p:nvPr/>
            </p:nvGrpSpPr>
            <p:grpSpPr>
              <a:xfrm>
                <a:off x="379440" y="850680"/>
                <a:ext cx="115200" cy="69840"/>
                <a:chOff x="379440" y="850680"/>
                <a:chExt cx="115200" cy="69840"/>
              </a:xfrm>
            </p:grpSpPr>
            <p:pic>
              <p:nvPicPr>
                <p:cNvPr id="96" name="椭圆 13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379440" y="850680"/>
                  <a:ext cx="115200" cy="69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7" name=""/>
                <p:cNvSpPr/>
                <p:nvPr/>
              </p:nvSpPr>
              <p:spPr>
                <a:xfrm rot="16200000">
                  <a:off x="413280" y="843120"/>
                  <a:ext cx="47880" cy="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800" bIns="37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8" name="椭圆 29"/>
              <p:cNvSpPr/>
              <p:nvPr/>
            </p:nvSpPr>
            <p:spPr>
              <a:xfrm rot="16200000">
                <a:off x="396360" y="707400"/>
                <a:ext cx="82800" cy="1458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27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9" name="椭圆 30"/>
              <p:cNvGrpSpPr/>
              <p:nvPr/>
            </p:nvGrpSpPr>
            <p:grpSpPr>
              <a:xfrm>
                <a:off x="379440" y="745560"/>
                <a:ext cx="115200" cy="69840"/>
                <a:chOff x="379440" y="745560"/>
                <a:chExt cx="115200" cy="69840"/>
              </a:xfrm>
            </p:grpSpPr>
            <p:pic>
              <p:nvPicPr>
                <p:cNvPr id="100" name="椭圆 30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79440" y="745560"/>
                  <a:ext cx="115200" cy="69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1" name=""/>
                <p:cNvSpPr/>
                <p:nvPr/>
              </p:nvSpPr>
              <p:spPr>
                <a:xfrm rot="16200000">
                  <a:off x="413280" y="737280"/>
                  <a:ext cx="47880" cy="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800" bIns="37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" name="圆角矩形 31"/>
              <p:cNvGrpSpPr/>
              <p:nvPr/>
            </p:nvGrpSpPr>
            <p:grpSpPr>
              <a:xfrm>
                <a:off x="82440" y="875160"/>
                <a:ext cx="390240" cy="52560"/>
                <a:chOff x="82440" y="875160"/>
                <a:chExt cx="390240" cy="52560"/>
              </a:xfrm>
            </p:grpSpPr>
            <p:pic>
              <p:nvPicPr>
                <p:cNvPr id="103" name="圆角矩形 31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2440" y="875160"/>
                  <a:ext cx="390240" cy="52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4" name=""/>
                <p:cNvSpPr/>
                <p:nvPr/>
              </p:nvSpPr>
              <p:spPr>
                <a:xfrm rot="16200000">
                  <a:off x="274320" y="738360"/>
                  <a:ext cx="6840" cy="325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5" name="圆角矩形 32"/>
              <p:cNvGrpSpPr/>
              <p:nvPr/>
            </p:nvGrpSpPr>
            <p:grpSpPr>
              <a:xfrm>
                <a:off x="82440" y="847080"/>
                <a:ext cx="390240" cy="52560"/>
                <a:chOff x="82440" y="847080"/>
                <a:chExt cx="390240" cy="52560"/>
              </a:xfrm>
            </p:grpSpPr>
            <p:pic>
              <p:nvPicPr>
                <p:cNvPr id="106" name="圆角矩形 3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2440" y="847080"/>
                  <a:ext cx="390240" cy="52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7" name=""/>
                <p:cNvSpPr/>
                <p:nvPr/>
              </p:nvSpPr>
              <p:spPr>
                <a:xfrm rot="16200000">
                  <a:off x="274320" y="711720"/>
                  <a:ext cx="6840" cy="325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8" name="圆角矩形 33"/>
              <p:cNvGrpSpPr/>
              <p:nvPr/>
            </p:nvGrpSpPr>
            <p:grpSpPr>
              <a:xfrm>
                <a:off x="82440" y="766440"/>
                <a:ext cx="390240" cy="52560"/>
                <a:chOff x="82440" y="766440"/>
                <a:chExt cx="390240" cy="52560"/>
              </a:xfrm>
            </p:grpSpPr>
            <p:pic>
              <p:nvPicPr>
                <p:cNvPr id="109" name="圆角矩形 33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2440" y="766440"/>
                  <a:ext cx="390240" cy="52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0" name=""/>
                <p:cNvSpPr/>
                <p:nvPr/>
              </p:nvSpPr>
              <p:spPr>
                <a:xfrm rot="16200000">
                  <a:off x="274320" y="629640"/>
                  <a:ext cx="6840" cy="325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1" name="圆角矩形 34"/>
              <p:cNvGrpSpPr/>
              <p:nvPr/>
            </p:nvGrpSpPr>
            <p:grpSpPr>
              <a:xfrm>
                <a:off x="82440" y="741960"/>
                <a:ext cx="390240" cy="48960"/>
                <a:chOff x="82440" y="741960"/>
                <a:chExt cx="390240" cy="48960"/>
              </a:xfrm>
            </p:grpSpPr>
            <p:pic>
              <p:nvPicPr>
                <p:cNvPr id="112" name="圆角矩形 34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2440" y="741960"/>
                  <a:ext cx="390240" cy="48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3" name=""/>
                <p:cNvSpPr/>
                <p:nvPr/>
              </p:nvSpPr>
              <p:spPr>
                <a:xfrm rot="16200000">
                  <a:off x="274320" y="603360"/>
                  <a:ext cx="6840" cy="325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文本框 391169"/>
          <p:cNvSpPr/>
          <p:nvPr/>
        </p:nvSpPr>
        <p:spPr>
          <a:xfrm>
            <a:off x="611280" y="620640"/>
            <a:ext cx="540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文本框 391170"/>
          <p:cNvSpPr/>
          <p:nvPr/>
        </p:nvSpPr>
        <p:spPr>
          <a:xfrm>
            <a:off x="900000" y="476280"/>
            <a:ext cx="36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迷你简胖头鱼"/>
              </a:rPr>
              <a:t>强化提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文本框 391171"/>
          <p:cNvSpPr/>
          <p:nvPr/>
        </p:nvSpPr>
        <p:spPr>
          <a:xfrm>
            <a:off x="1116000" y="1557360"/>
            <a:ext cx="640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图片 391172" descr=""/>
          <p:cNvPicPr/>
          <p:nvPr/>
        </p:nvPicPr>
        <p:blipFill>
          <a:blip r:embed="rId1"/>
          <a:stretch/>
        </p:blipFill>
        <p:spPr>
          <a:xfrm>
            <a:off x="0" y="0"/>
            <a:ext cx="8244000" cy="681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文本框 392193"/>
          <p:cNvSpPr/>
          <p:nvPr/>
        </p:nvSpPr>
        <p:spPr>
          <a:xfrm>
            <a:off x="826920" y="858960"/>
            <a:ext cx="7777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你家在学校的什么方向？从你家到学校的距离大约有多远？自己先确定比例尺，再在图上把你家的位置表示出来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并与同学交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组合 392194"/>
          <p:cNvGrpSpPr/>
          <p:nvPr/>
        </p:nvGrpSpPr>
        <p:grpSpPr>
          <a:xfrm>
            <a:off x="1476360" y="2781360"/>
            <a:ext cx="6624720" cy="3816360"/>
            <a:chOff x="1476360" y="2781360"/>
            <a:chExt cx="6624720" cy="3816360"/>
          </a:xfrm>
        </p:grpSpPr>
        <p:grpSp>
          <p:nvGrpSpPr>
            <p:cNvPr id="120" name="组合 392195"/>
            <p:cNvGrpSpPr/>
            <p:nvPr/>
          </p:nvGrpSpPr>
          <p:grpSpPr>
            <a:xfrm>
              <a:off x="4572000" y="4815000"/>
              <a:ext cx="576360" cy="581400"/>
              <a:chOff x="4572000" y="4815000"/>
              <a:chExt cx="576360" cy="581400"/>
            </a:xfrm>
          </p:grpSpPr>
          <p:sp>
            <p:nvSpPr>
              <p:cNvPr id="121" name="椭圆 392196"/>
              <p:cNvSpPr/>
              <p:nvPr/>
            </p:nvSpPr>
            <p:spPr>
              <a:xfrm>
                <a:off x="4613400" y="5062680"/>
                <a:ext cx="215640" cy="2160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文本框 392197"/>
              <p:cNvSpPr/>
              <p:nvPr/>
            </p:nvSpPr>
            <p:spPr>
              <a:xfrm>
                <a:off x="4572000" y="4815000"/>
                <a:ext cx="5763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Arial"/>
                    <a:ea typeface="迷你简胖头鱼"/>
                  </a:rPr>
                  <a:t>·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3" name="组合 392198"/>
            <p:cNvGrpSpPr/>
            <p:nvPr/>
          </p:nvGrpSpPr>
          <p:grpSpPr>
            <a:xfrm>
              <a:off x="1476360" y="2781360"/>
              <a:ext cx="6624720" cy="3816360"/>
              <a:chOff x="1476360" y="2781360"/>
              <a:chExt cx="6624720" cy="3816360"/>
            </a:xfrm>
          </p:grpSpPr>
          <p:sp>
            <p:nvSpPr>
              <p:cNvPr id="124" name="矩形 392199"/>
              <p:cNvSpPr/>
              <p:nvPr/>
            </p:nvSpPr>
            <p:spPr>
              <a:xfrm>
                <a:off x="1476360" y="2781360"/>
                <a:ext cx="6408720" cy="381636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文本框 392200"/>
              <p:cNvSpPr/>
              <p:nvPr/>
            </p:nvSpPr>
            <p:spPr>
              <a:xfrm>
                <a:off x="5170320" y="5826240"/>
                <a:ext cx="2087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比例尺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文本框 392201"/>
              <p:cNvSpPr/>
              <p:nvPr/>
            </p:nvSpPr>
            <p:spPr>
              <a:xfrm>
                <a:off x="4149720" y="5157720"/>
                <a:ext cx="1871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学校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直接连接符 392202"/>
              <p:cNvSpPr/>
              <p:nvPr/>
            </p:nvSpPr>
            <p:spPr>
              <a:xfrm flipV="1">
                <a:off x="7451640" y="3500280"/>
                <a:ext cx="0" cy="431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文本框 392203"/>
              <p:cNvSpPr/>
              <p:nvPr/>
            </p:nvSpPr>
            <p:spPr>
              <a:xfrm>
                <a:off x="7093080" y="2852640"/>
                <a:ext cx="1008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北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文本框 393217"/>
          <p:cNvSpPr/>
          <p:nvPr/>
        </p:nvSpPr>
        <p:spPr>
          <a:xfrm>
            <a:off x="826920" y="1052640"/>
            <a:ext cx="72741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文本框 393218"/>
          <p:cNvSpPr/>
          <p:nvPr/>
        </p:nvSpPr>
        <p:spPr>
          <a:xfrm>
            <a:off x="611280" y="2349360"/>
            <a:ext cx="345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矩形 393219" descr="纸袋"/>
          <p:cNvPicPr/>
          <p:nvPr/>
        </p:nvPicPr>
        <p:blipFill>
          <a:blip r:embed="rId1"/>
          <a:stretch/>
        </p:blipFill>
        <p:spPr>
          <a:xfrm>
            <a:off x="542880" y="317520"/>
            <a:ext cx="3809880" cy="1163520"/>
          </a:xfrm>
          <a:prstGeom prst="rect">
            <a:avLst/>
          </a:prstGeom>
          <a:ln w="0">
            <a:noFill/>
          </a:ln>
        </p:spPr>
      </p:pic>
      <p:sp>
        <p:nvSpPr>
          <p:cNvPr id="132" name="文本框 393220"/>
          <p:cNvSpPr/>
          <p:nvPr/>
        </p:nvSpPr>
        <p:spPr>
          <a:xfrm>
            <a:off x="488880" y="1920960"/>
            <a:ext cx="8286840" cy="29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迷你简胖头鱼"/>
              </a:rPr>
              <a:t>按照国家规定的标准、图示和比例尺绘制的地图叫做国家基本比例尺地图。我国的国家基本比例尺地图的比例尺有以下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迷你简胖头鱼"/>
              </a:rPr>
              <a:t>1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迷你简胖头鱼"/>
              </a:rPr>
              <a:t>种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迷你简胖头鱼"/>
              </a:rPr>
              <a:t>1:1500,1:1000,1:2000,1:5000,1:10000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迷你简胖头鱼"/>
              </a:rPr>
              <a:t>1:25000,1:50000,1:100000,1:200000,1:500000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迷你简胖头鱼"/>
              </a:rPr>
              <a:t>1:100000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迷你简胖头鱼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文本框 394241"/>
          <p:cNvSpPr/>
          <p:nvPr/>
        </p:nvSpPr>
        <p:spPr>
          <a:xfrm>
            <a:off x="196920" y="1197000"/>
            <a:ext cx="8655120" cy="21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判一判：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把一个电脑零件放大到原来的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0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倍画在图纸上，应选用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：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0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的比例尺。（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比例尺一定，图上距离和实际距离成正比例（       ）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文本框 394242"/>
          <p:cNvSpPr/>
          <p:nvPr/>
        </p:nvSpPr>
        <p:spPr>
          <a:xfrm>
            <a:off x="6588000" y="620640"/>
            <a:ext cx="184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文本框 394243"/>
          <p:cNvSpPr/>
          <p:nvPr/>
        </p:nvSpPr>
        <p:spPr>
          <a:xfrm>
            <a:off x="1211400" y="381312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文本框 394244"/>
          <p:cNvSpPr/>
          <p:nvPr/>
        </p:nvSpPr>
        <p:spPr>
          <a:xfrm>
            <a:off x="6772320" y="224316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宋体"/>
              </a:rPr>
              <a:t>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文本框 398337"/>
          <p:cNvSpPr/>
          <p:nvPr/>
        </p:nvSpPr>
        <p:spPr>
          <a:xfrm>
            <a:off x="196920" y="496800"/>
            <a:ext cx="87487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这间教室长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米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宽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米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请你根据纸的大小选择合适的比例尺画出教室的平面图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:50    1: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:200   1: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文本框 398338"/>
          <p:cNvSpPr/>
          <p:nvPr/>
        </p:nvSpPr>
        <p:spPr>
          <a:xfrm>
            <a:off x="5292720" y="1484280"/>
            <a:ext cx="23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求合适的图上距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398339"/>
          <p:cNvSpPr/>
          <p:nvPr/>
        </p:nvSpPr>
        <p:spPr>
          <a:xfrm>
            <a:off x="250920" y="2852640"/>
            <a:ext cx="7850160" cy="400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÷0.5=2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7÷0.5=1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宋体"/>
              </a:rPr>
              <a:t>不合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÷1=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7÷1=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宋体"/>
              </a:rPr>
              <a:t>合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÷2=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7÷2=3.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宋体"/>
              </a:rPr>
              <a:t>合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" dur="8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" dur="8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" dur="8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" dur="8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" dur="8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" dur="8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" dur="8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" dur="8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" dur="8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6" dur="8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7" dur="8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" dur="8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3" dur="8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4" dur="8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" dur="8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0" dur="8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1" dur="8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" dur="8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7" dur="80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8" dur="80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" dur="80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5" descr="未标题-1"/>
          <p:cNvPicPr/>
          <p:nvPr/>
        </p:nvPicPr>
        <p:blipFill>
          <a:blip r:embed="rId1"/>
          <a:stretch/>
        </p:blipFill>
        <p:spPr>
          <a:xfrm>
            <a:off x="2286000" y="2743200"/>
            <a:ext cx="5105520" cy="12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1-30T07:03:06Z</dcterms:created>
  <dc:creator>Administrator</dc:creator>
  <dc:description/>
  <dc:language>en-US</dc:language>
  <cp:lastModifiedBy>Windows 用户</cp:lastModifiedBy>
  <dcterms:modified xsi:type="dcterms:W3CDTF">2018-01-16T03:28:43Z</dcterms:modified>
  <cp:revision>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424</vt:lpwstr>
  </property>
</Properties>
</file>